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439-9CB6-4EB6-A3BD-4DE7E6E0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78A-9FA5-44AB-84F5-3EFB3C32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9B6-0D88-47DF-AE31-B85A81EC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7FD-23E3-408E-A2E0-4269CD05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3B2-6C7F-44EE-A716-68625059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5BD-9805-47A6-BFD5-2C28B268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975-A325-48EB-844A-1208D77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8CA-9C21-4D32-A105-B9292815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866-F966-4EE1-85C9-566FC9AF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2DE-DE27-411C-976F-20187C90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7D1-630B-42A1-9121-61463B14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A48-4FCF-45C4-8025-9C72CD89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1A3D-B7AD-447D-9415-9A3D1852ECA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3 Psychological Theories About Social Change (Part 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61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ion Wood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f we can free ourselves from this old-style thinking we can bring a new energy to our personal relationshi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e thinks that there is some place where psychology and religion meet, and where religion becomes more essential than psyc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ion Wood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064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braham Maslow (1908-197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68280" y="1413000"/>
            <a:ext cx="8451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slow’s Hierarchy of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0360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slow’s Hierarchy of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we have satisfied the need at one level, rather than becoming satisfied overall, we tend to move on and try to satisfy the need at the next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lf-Actualization: people who are able to dedicate themselves to serving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believe that all humans share common  b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8424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s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dustrial Psychology greatest im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anging the work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aising morale among employ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ion Wood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9640" y="1695600"/>
            <a:ext cx="85694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ion Wood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rites about relationships between women &amp; men and science &amp; fa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e writes that all adults have been brought up in a patriarchal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fore their attitudes about families and society are out of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ion Wood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oodman believes that women and men should free themselves from patriarchal thinking before their personal relationships can be fulfilling and before people can change the nature of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20:11:28Z</dcterms:created>
  <dc:creator>Jason</dc:creator>
  <dc:description/>
  <dc:language>en-US</dc:language>
  <cp:lastModifiedBy>Jason</cp:lastModifiedBy>
  <dcterms:modified xsi:type="dcterms:W3CDTF">2010-10-01T13:00:12Z</dcterms:modified>
  <cp:revision>5</cp:revision>
  <dc:subject/>
  <dc:title>PowerPoint Presentation</dc:title>
</cp:coreProperties>
</file>